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BF82D-714C-4351-88AB-CA186D21523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EC15B-A55F-4610-9194-DD4AACF6313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7B5C3-D2FF-4BC3-9921-33A79926164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1CEA5-24B7-4606-AB2E-0D8F0982855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0F304-887E-4483-86E7-F8DD23B1466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A2041-5A76-466F-81C9-D4BE28C23C1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28B68-8BDF-4860-91E3-57735A99396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3A701-323A-44A0-80AE-7E5AE79ADC6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168D4-3CAA-4E6F-A221-CE3A05E8C73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942D6-490C-44D7-9BDB-8B5A5AE82F8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32772-49B7-47EA-AE3A-9D9C3EC9254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7F82C-75AF-43A0-A9F4-EE1E0C52ECF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A5DA4-85E4-45A6-9E65-F78BA39527A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F228E-2B0C-45D7-BBA5-E636E9B4FFB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67703-E45E-4B56-A5AC-C2A0DD73E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F1C9F-2C61-46D6-9FB3-5B4AF781C0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6433-E86D-4E06-A4A5-E97AD90EE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8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CBD85-7651-4615-AD4A-1BC5AD62CE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880FE-8C81-4E7A-81FA-92DB7F1F21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12899-0423-49A8-8AE4-72722B84E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52A18-A8E8-49EA-835A-2753ACE15F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FACE6-D2B1-4E8E-A190-6CE13E3EC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5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1C573-7A2A-409F-B791-415F01276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EB630-D525-4863-A996-B07CA5A64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3E82F-6138-4F5D-8879-CAD50A8F55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A260B-8D00-472E-95FE-D6A8F3145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8986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7C9BA6-0E5D-4F46-A435-BFEC3D68C7F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53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función de rela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/>
            <p:cNvSpPr/>
            <p:nvPr/>
          </p:nvSpPr>
          <p:spPr>
            <a:xfrm>
              <a:off x="1828800" y="2666880"/>
              <a:ext cx="5697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DISTINTOS TIPOS DE ÓRGANOS SENSORI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98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Text Box 4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1" name="Picture 5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Text Box 6"/>
          <p:cNvSpPr/>
          <p:nvPr/>
        </p:nvSpPr>
        <p:spPr>
          <a:xfrm>
            <a:off x="900000" y="1557360"/>
            <a:ext cx="7272360" cy="17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tan sustancias químicas que hay en el aire, agua o alimen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n lugar a dos sentidos muy relacionados: el olfato y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gus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Quimiorrecep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istintos tipos de órganos senso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4356000" y="2852640"/>
            <a:ext cx="4392720" cy="1349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755640" y="3716280"/>
            <a:ext cx="3672000" cy="254952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3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208" name="AutoShape 4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Picture 7" descr=""/>
            <p:cNvPicPr/>
            <p:nvPr/>
          </p:nvPicPr>
          <p:blipFill>
            <a:blip r:embed="rId3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Text Box 8"/>
          <p:cNvSpPr/>
          <p:nvPr/>
        </p:nvSpPr>
        <p:spPr>
          <a:xfrm>
            <a:off x="971640" y="1419120"/>
            <a:ext cx="727236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elen situarse casi siempre cerca de la boca, por 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Artrópodos: en las anten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Vertebrados: fosas nasales y lengu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90000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Quimiorrecep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684360" y="2637000"/>
            <a:ext cx="201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ntenas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ntienen numerosos receptores de  sustancias del aire, haciendo de órganos del olfat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5724360" y="5013360"/>
            <a:ext cx="201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engua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pta sustancias del medio, sirviendo como órgano del olfato y gust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istintos tipos de órganos senso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15"/>
          <p:cNvSpPr/>
          <p:nvPr/>
        </p:nvSpPr>
        <p:spPr>
          <a:xfrm>
            <a:off x="1755720" y="3657600"/>
            <a:ext cx="55440" cy="11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16"/>
          <p:cNvSpPr/>
          <p:nvPr/>
        </p:nvSpPr>
        <p:spPr>
          <a:xfrm>
            <a:off x="1755720" y="3657600"/>
            <a:ext cx="1417680" cy="85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17"/>
          <p:cNvSpPr/>
          <p:nvPr/>
        </p:nvSpPr>
        <p:spPr>
          <a:xfrm flipH="1" flipV="1">
            <a:off x="6249960" y="3570120"/>
            <a:ext cx="238320" cy="150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Line 18"/>
          <p:cNvSpPr/>
          <p:nvPr/>
        </p:nvSpPr>
        <p:spPr>
          <a:xfrm flipV="1">
            <a:off x="6483240" y="3616200"/>
            <a:ext cx="1746360" cy="145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60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Distintos tipos de órganos sensori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26 Grupo"/>
          <p:cNvGrpSpPr/>
          <p:nvPr/>
        </p:nvGrpSpPr>
        <p:grpSpPr>
          <a:xfrm>
            <a:off x="3492360" y="1270080"/>
            <a:ext cx="2087640" cy="1081080"/>
            <a:chOff x="3492360" y="1270080"/>
            <a:chExt cx="2087640" cy="1081080"/>
          </a:xfrm>
        </p:grpSpPr>
        <p:sp>
          <p:nvSpPr>
            <p:cNvPr id="66" name="AutoShape 7"/>
            <p:cNvSpPr/>
            <p:nvPr/>
          </p:nvSpPr>
          <p:spPr>
            <a:xfrm>
              <a:off x="3492360" y="1270080"/>
              <a:ext cx="2087640" cy="1081080"/>
            </a:xfrm>
            <a:prstGeom prst="roundRect">
              <a:avLst>
                <a:gd name="adj" fmla="val 16667"/>
              </a:avLst>
            </a:prstGeom>
            <a:solidFill>
              <a:srgbClr val="7575d1"/>
            </a:solidFill>
            <a:ln w="381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Text Box 14"/>
            <p:cNvSpPr/>
            <p:nvPr/>
          </p:nvSpPr>
          <p:spPr>
            <a:xfrm>
              <a:off x="3563640" y="1484280"/>
              <a:ext cx="194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ÓRGANOS SENSORIAL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" name="Text Box 19"/>
          <p:cNvSpPr/>
          <p:nvPr/>
        </p:nvSpPr>
        <p:spPr>
          <a:xfrm>
            <a:off x="2916360" y="5229360"/>
            <a:ext cx="30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recuadro para saber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25 Grupo"/>
          <p:cNvGrpSpPr/>
          <p:nvPr/>
        </p:nvGrpSpPr>
        <p:grpSpPr>
          <a:xfrm>
            <a:off x="1908000" y="2349360"/>
            <a:ext cx="5257800" cy="1081080"/>
            <a:chOff x="1908000" y="2349360"/>
            <a:chExt cx="5257800" cy="1081080"/>
          </a:xfrm>
        </p:grpSpPr>
        <p:sp>
          <p:nvSpPr>
            <p:cNvPr id="70" name="Freeform 10"/>
            <p:cNvSpPr/>
            <p:nvPr/>
          </p:nvSpPr>
          <p:spPr>
            <a:xfrm>
              <a:off x="1908000" y="3141720"/>
              <a:ext cx="5256360" cy="1440"/>
            </a:xfrm>
            <a:custGeom>
              <a:avLst/>
              <a:gdLst>
                <a:gd name="textAreaLeft" fmla="*/ 0 w 5256360"/>
                <a:gd name="textAreaRight" fmla="*/ 5256720 w 5256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4602" h="1">
                  <a:moveTo>
                    <a:pt x="0" y="0"/>
                  </a:moveTo>
                  <a:lnTo>
                    <a:pt x="14601" y="0"/>
                  </a:lnTo>
                </a:path>
              </a:pathLst>
            </a:custGeom>
            <a:noFill/>
            <a:ln w="255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11"/>
            <p:cNvSpPr/>
            <p:nvPr/>
          </p:nvSpPr>
          <p:spPr>
            <a:xfrm>
              <a:off x="1908000" y="3141720"/>
              <a:ext cx="1440" cy="288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" h="803">
                  <a:moveTo>
                    <a:pt x="0" y="802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2"/>
            <p:cNvSpPr/>
            <p:nvPr/>
          </p:nvSpPr>
          <p:spPr>
            <a:xfrm>
              <a:off x="4572000" y="3141720"/>
              <a:ext cx="1440" cy="288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" h="803">
                  <a:moveTo>
                    <a:pt x="0" y="802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3"/>
            <p:cNvSpPr/>
            <p:nvPr/>
          </p:nvSpPr>
          <p:spPr>
            <a:xfrm>
              <a:off x="4572000" y="2349360"/>
              <a:ext cx="1440" cy="7923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792360"/>
                <a:gd name="textAreaBottom" fmla="*/ 792720 h 792360"/>
              </a:gdLst>
              <a:ahLst/>
              <a:rect l="textAreaLeft" t="textAreaTop" r="textAreaRight" b="textAreaBottom"/>
              <a:pathLst>
                <a:path w="1" h="2202">
                  <a:moveTo>
                    <a:pt x="0" y="0"/>
                  </a:moveTo>
                  <a:lnTo>
                    <a:pt x="0" y="2201"/>
                  </a:lnTo>
                </a:path>
              </a:pathLst>
            </a:custGeom>
            <a:noFill/>
            <a:ln w="255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21"/>
            <p:cNvSpPr/>
            <p:nvPr/>
          </p:nvSpPr>
          <p:spPr>
            <a:xfrm>
              <a:off x="7164360" y="3141720"/>
              <a:ext cx="1440" cy="288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" h="803">
                  <a:moveTo>
                    <a:pt x="0" y="802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29 Grupo"/>
          <p:cNvGrpSpPr/>
          <p:nvPr/>
        </p:nvGrpSpPr>
        <p:grpSpPr>
          <a:xfrm>
            <a:off x="5580000" y="3357720"/>
            <a:ext cx="3419640" cy="1295280"/>
            <a:chOff x="5580000" y="3357720"/>
            <a:chExt cx="3419640" cy="1295280"/>
          </a:xfrm>
        </p:grpSpPr>
        <p:sp>
          <p:nvSpPr>
            <p:cNvPr id="76" name="AutoShape 20"/>
            <p:cNvSpPr/>
            <p:nvPr/>
          </p:nvSpPr>
          <p:spPr>
            <a:xfrm>
              <a:off x="6017040" y="3357720"/>
              <a:ext cx="2543400" cy="1295280"/>
            </a:xfrm>
            <a:prstGeom prst="roundRect">
              <a:avLst>
                <a:gd name="adj" fmla="val 16667"/>
              </a:avLst>
            </a:prstGeom>
            <a:solidFill>
              <a:srgbClr val="7575d1"/>
            </a:solidFill>
            <a:ln w="381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Text Box 22"/>
            <p:cNvSpPr/>
            <p:nvPr/>
          </p:nvSpPr>
          <p:spPr>
            <a:xfrm>
              <a:off x="5580000" y="3789360"/>
              <a:ext cx="341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QUIMIORRECEPTOR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27 Grupo"/>
          <p:cNvGrpSpPr/>
          <p:nvPr/>
        </p:nvGrpSpPr>
        <p:grpSpPr>
          <a:xfrm>
            <a:off x="539640" y="3357720"/>
            <a:ext cx="2737080" cy="1223640"/>
            <a:chOff x="539640" y="3357720"/>
            <a:chExt cx="2737080" cy="1223640"/>
          </a:xfrm>
        </p:grpSpPr>
        <p:sp>
          <p:nvSpPr>
            <p:cNvPr id="79" name="AutoShape 9"/>
            <p:cNvSpPr/>
            <p:nvPr/>
          </p:nvSpPr>
          <p:spPr>
            <a:xfrm>
              <a:off x="711000" y="3357720"/>
              <a:ext cx="2395800" cy="1223640"/>
            </a:xfrm>
            <a:prstGeom prst="roundRect">
              <a:avLst>
                <a:gd name="adj" fmla="val 16667"/>
              </a:avLst>
            </a:prstGeom>
            <a:solidFill>
              <a:srgbClr val="7575d1"/>
            </a:solidFill>
            <a:ln w="381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Text Box 15"/>
            <p:cNvSpPr/>
            <p:nvPr/>
          </p:nvSpPr>
          <p:spPr>
            <a:xfrm>
              <a:off x="539640" y="3756960"/>
              <a:ext cx="273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FOTORRECEPTOR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28 Grupo"/>
          <p:cNvGrpSpPr/>
          <p:nvPr/>
        </p:nvGrpSpPr>
        <p:grpSpPr>
          <a:xfrm>
            <a:off x="3132000" y="3357720"/>
            <a:ext cx="2880000" cy="1223640"/>
            <a:chOff x="3132000" y="3357720"/>
            <a:chExt cx="2880000" cy="1223640"/>
          </a:xfrm>
        </p:grpSpPr>
        <p:sp>
          <p:nvSpPr>
            <p:cNvPr id="82" name="AutoShape 8">
              <a:hlinkClick r:id="rId2" action="ppaction://hlinksldjump"/>
            </p:cNvPr>
            <p:cNvSpPr/>
            <p:nvPr/>
          </p:nvSpPr>
          <p:spPr>
            <a:xfrm>
              <a:off x="3344400" y="3357720"/>
              <a:ext cx="2425680" cy="1223640"/>
            </a:xfrm>
            <a:prstGeom prst="roundRect">
              <a:avLst>
                <a:gd name="adj" fmla="val 16667"/>
              </a:avLst>
            </a:prstGeom>
            <a:solidFill>
              <a:srgbClr val="7575d1"/>
            </a:solidFill>
            <a:ln w="381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Text Box 16">
              <a:hlinkClick r:id="rId3" action="ppaction://hlinksldjump"/>
            </p:cNvPr>
            <p:cNvSpPr/>
            <p:nvPr/>
          </p:nvSpPr>
          <p:spPr>
            <a:xfrm>
              <a:off x="3132000" y="3789360"/>
              <a:ext cx="288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MECANORRECEPTOR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85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Text Box 4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" name="Picture 5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Text Box 6"/>
          <p:cNvSpPr/>
          <p:nvPr/>
        </p:nvSpPr>
        <p:spPr>
          <a:xfrm>
            <a:off x="971640" y="1419120"/>
            <a:ext cx="72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ienen células receptoras que captan un determinado estímulo y envían una señal al sistema nervioso, donde es interpretada como una sens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90000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Órganos sensor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2"/>
          <a:stretch/>
        </p:blipFill>
        <p:spPr>
          <a:xfrm>
            <a:off x="1706400" y="2878200"/>
            <a:ext cx="6610680" cy="23511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1"/>
          <p:cNvSpPr/>
          <p:nvPr/>
        </p:nvSpPr>
        <p:spPr>
          <a:xfrm>
            <a:off x="4282920" y="4861080"/>
            <a:ext cx="158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3: Los ojos del gato captan la luz procedente del av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395280" y="2708280"/>
            <a:ext cx="1871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: Los oídos del gato captan las vibraciones del canto del pája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395280" y="5087880"/>
            <a:ext cx="194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Órganos sensoriales de un gato captando estímul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6588000" y="4437000"/>
            <a:ext cx="1584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: Un pájaro canta (emite vibraciones) y la luz se refleja en é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istintos tipos de órganos senso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16"/>
          <p:cNvSpPr/>
          <p:nvPr/>
        </p:nvSpPr>
        <p:spPr>
          <a:xfrm flipV="1">
            <a:off x="7023240" y="3661920"/>
            <a:ext cx="30132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17"/>
          <p:cNvSpPr/>
          <p:nvPr/>
        </p:nvSpPr>
        <p:spPr>
          <a:xfrm>
            <a:off x="2103480" y="3044880"/>
            <a:ext cx="100656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Line 18"/>
          <p:cNvSpPr/>
          <p:nvPr/>
        </p:nvSpPr>
        <p:spPr>
          <a:xfrm flipH="1" flipV="1">
            <a:off x="3489480" y="3963600"/>
            <a:ext cx="1490400" cy="93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03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Text Box 4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6" name="Picture 5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Text Box 6"/>
          <p:cNvSpPr/>
          <p:nvPr/>
        </p:nvSpPr>
        <p:spPr>
          <a:xfrm>
            <a:off x="971640" y="1557360"/>
            <a:ext cx="727236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os animales forman los oj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tan la luz y proporcionan la vis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elen situarse en la cabez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Fotorrecep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istintos tipos de órganos senso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3852720" y="3429000"/>
            <a:ext cx="3168720" cy="316872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12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5" name="Picture 6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Text Box 7"/>
          <p:cNvSpPr/>
          <p:nvPr/>
        </p:nvSpPr>
        <p:spPr>
          <a:xfrm>
            <a:off x="971640" y="1419120"/>
            <a:ext cx="7777080" cy="20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gún su complejidad, distinguimos varios tipos de oj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Simples. Los tienen muchos invertebrados. Solo detectan la presencia o ausencia de luz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Compuestos. Se dan en los artrópodos. Constan de miles de pequeñas unidades llamadas omatidios. Entre todos dan una visión en mosaic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Tipos de ojos (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6515280" y="8101080"/>
            <a:ext cx="180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Ojo compuesto de un insec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7669080" y="4284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matid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908000" y="4221000"/>
            <a:ext cx="12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jo com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istintos tipos de órganos senso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13"/>
          <p:cNvSpPr/>
          <p:nvPr/>
        </p:nvSpPr>
        <p:spPr>
          <a:xfrm flipH="1" flipV="1">
            <a:off x="6094440" y="4230720"/>
            <a:ext cx="159048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14"/>
          <p:cNvSpPr/>
          <p:nvPr/>
        </p:nvSpPr>
        <p:spPr>
          <a:xfrm>
            <a:off x="2906640" y="4410000"/>
            <a:ext cx="104292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3933720" y="33764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jo simp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14"/>
          <p:cNvSpPr/>
          <p:nvPr/>
        </p:nvSpPr>
        <p:spPr>
          <a:xfrm>
            <a:off x="4572000" y="3645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27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Text Box 4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0" name="Picture 5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Text Box 6"/>
          <p:cNvSpPr/>
          <p:nvPr/>
        </p:nvSpPr>
        <p:spPr>
          <a:xfrm>
            <a:off x="971640" y="1419120"/>
            <a:ext cx="770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ipo cámara. Los tienen algunos invertebrados, como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cefalópodos, y casi todos los vertebrados. Su estructura se asemeja a una cámara de fotos y dan una imagen nítida del entorn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Tipos de ojos (I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2"/>
          <a:stretch/>
        </p:blipFill>
        <p:spPr>
          <a:xfrm>
            <a:off x="2771640" y="2708280"/>
            <a:ext cx="3313080" cy="3311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"/>
          <p:cNvSpPr/>
          <p:nvPr/>
        </p:nvSpPr>
        <p:spPr>
          <a:xfrm>
            <a:off x="6227640" y="530064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Ojo tipo cámara de un a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istintos tipos de órganos senso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37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Text Box 4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0" name="Picture 5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 Box 6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Ojo en cám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7032600" cy="2932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0"/>
          <p:cNvSpPr/>
          <p:nvPr/>
        </p:nvSpPr>
        <p:spPr>
          <a:xfrm>
            <a:off x="2771640" y="1393920"/>
            <a:ext cx="216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ristalino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tua como la lente de una cámara, enfocando los objet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395280" y="1971720"/>
            <a:ext cx="2448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upila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ace las veces del diafragma de una cámara. Se abre o cierra para controlar la luz que entra al oj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6948360" y="1268280"/>
            <a:ext cx="223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tina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 como el sensor de una cámara digital. Es la capa más interna del ojo y en ella se forma la imagen recibida en el ojo. Esta se forma del revés, pero el cerebro corrige esto e invierte la image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611280" y="4614840"/>
            <a:ext cx="2089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ris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 un disco muscular cuya función es abrir y cerrar la pupila. Da sus característicos colores al oj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6300720" y="5334120"/>
            <a:ext cx="244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ervio óptico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leva la información recibida por la retina al cerebr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7236000" y="3770280"/>
            <a:ext cx="190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óvea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 la zona de la retina con más densidad de con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2843280" y="4724280"/>
            <a:ext cx="2089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clerótica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 la capa más externa, de color blanco, salvo en la parte anterior donde se hace transparente y pasa a llamarse córne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4859280" y="1052640"/>
            <a:ext cx="2089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roides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pa media del ojo, es de color rojo oscuro debido a que está lleno de capilares sanguíne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istintos tipos de órganos senso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2624040" y="2570040"/>
            <a:ext cx="2560680" cy="127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20"/>
          <p:cNvSpPr/>
          <p:nvPr/>
        </p:nvSpPr>
        <p:spPr>
          <a:xfrm>
            <a:off x="3859200" y="2176560"/>
            <a:ext cx="1454040" cy="16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21"/>
          <p:cNvSpPr/>
          <p:nvPr/>
        </p:nvSpPr>
        <p:spPr>
          <a:xfrm>
            <a:off x="6016680" y="2049480"/>
            <a:ext cx="247680" cy="46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22"/>
          <p:cNvSpPr/>
          <p:nvPr/>
        </p:nvSpPr>
        <p:spPr>
          <a:xfrm flipH="1">
            <a:off x="6770160" y="2689200"/>
            <a:ext cx="2206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23"/>
          <p:cNvSpPr/>
          <p:nvPr/>
        </p:nvSpPr>
        <p:spPr>
          <a:xfrm flipH="1" flipV="1">
            <a:off x="6927840" y="3835440"/>
            <a:ext cx="31104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24"/>
          <p:cNvSpPr/>
          <p:nvPr/>
        </p:nvSpPr>
        <p:spPr>
          <a:xfrm flipV="1">
            <a:off x="6767640" y="4814640"/>
            <a:ext cx="72720" cy="54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25"/>
          <p:cNvSpPr/>
          <p:nvPr/>
        </p:nvSpPr>
        <p:spPr>
          <a:xfrm flipV="1">
            <a:off x="4408560" y="4328640"/>
            <a:ext cx="57636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26"/>
          <p:cNvSpPr/>
          <p:nvPr/>
        </p:nvSpPr>
        <p:spPr>
          <a:xfrm flipV="1">
            <a:off x="2149560" y="4138560"/>
            <a:ext cx="30812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2916360" y="3141720"/>
            <a:ext cx="3168360" cy="316692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64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7" name="Picture 6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Text Box 7"/>
          <p:cNvSpPr/>
          <p:nvPr/>
        </p:nvSpPr>
        <p:spPr>
          <a:xfrm>
            <a:off x="971640" y="1419120"/>
            <a:ext cx="7272360" cy="17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gún el estímulo que capten, se distinguen varios tip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Órganos de audición (oídos): Suelen ser orificios que captan vibraciones del aire o el agu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Órganos del equilibrio: Células sensibles a la gravedad que informan de la posición del cuerp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Mecanorreceptores (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6227640" y="56833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Oído de un rept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826920" y="39844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rificio del oí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1908000" y="60008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rificio del oí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1187280" y="463392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ructuras que recogen las vibr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Oval 13"/>
          <p:cNvSpPr/>
          <p:nvPr/>
        </p:nvSpPr>
        <p:spPr>
          <a:xfrm>
            <a:off x="4859280" y="4869000"/>
            <a:ext cx="1081080" cy="936360"/>
          </a:xfrm>
          <a:prstGeom prst="ellipse">
            <a:avLst/>
          </a:prstGeom>
          <a:noFill/>
          <a:ln w="25560">
            <a:solidFill>
              <a:srgbClr val="99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istintos tipos de órganos senso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15"/>
          <p:cNvSpPr/>
          <p:nvPr/>
        </p:nvSpPr>
        <p:spPr>
          <a:xfrm flipV="1">
            <a:off x="2332080" y="3642840"/>
            <a:ext cx="173664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16"/>
          <p:cNvSpPr/>
          <p:nvPr/>
        </p:nvSpPr>
        <p:spPr>
          <a:xfrm flipV="1">
            <a:off x="3365640" y="5601960"/>
            <a:ext cx="1398600" cy="53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17"/>
          <p:cNvSpPr/>
          <p:nvPr/>
        </p:nvSpPr>
        <p:spPr>
          <a:xfrm flipH="1" flipV="1">
            <a:off x="2518920" y="5052960"/>
            <a:ext cx="2344680" cy="238320"/>
          </a:xfrm>
          <a:prstGeom prst="line">
            <a:avLst/>
          </a:prstGeom>
          <a:ln w="18000">
            <a:solidFill>
              <a:srgbClr val="99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80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3" name="Picture 5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Text Box 6"/>
          <p:cNvSpPr/>
          <p:nvPr/>
        </p:nvSpPr>
        <p:spPr>
          <a:xfrm>
            <a:off x="971640" y="1419120"/>
            <a:ext cx="727236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Línea lateral: Se da en peces. Detectan vibraciones y movimientos en el agu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Piel: Tiene células receptoras de la presión, y proporciona el ta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Mecanorreceptores (I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2"/>
          <a:stretch/>
        </p:blipFill>
        <p:spPr>
          <a:xfrm>
            <a:off x="2843280" y="2781360"/>
            <a:ext cx="3384360" cy="3384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9"/>
          <p:cNvSpPr/>
          <p:nvPr/>
        </p:nvSpPr>
        <p:spPr>
          <a:xfrm>
            <a:off x="5435640" y="285264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Línea lateral de un pe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6300720" y="3789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élula recepto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1042920" y="394164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1979640" y="34290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i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1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istintos tipos de órganos senso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16"/>
          <p:cNvSpPr/>
          <p:nvPr/>
        </p:nvSpPr>
        <p:spPr>
          <a:xfrm>
            <a:off x="1517760" y="4197240"/>
            <a:ext cx="1527120" cy="128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2239920" y="3735360"/>
            <a:ext cx="1189080" cy="14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18"/>
          <p:cNvSpPr/>
          <p:nvPr/>
        </p:nvSpPr>
        <p:spPr>
          <a:xfrm flipH="1">
            <a:off x="5582880" y="4106880"/>
            <a:ext cx="1344600" cy="7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35:43Z</dcterms:created>
  <dc:creator>Carlos Martin</dc:creator>
  <dc:description/>
  <dc:language>en-US</dc:language>
  <cp:lastModifiedBy>joseluis</cp:lastModifiedBy>
  <dcterms:modified xsi:type="dcterms:W3CDTF">2012-10-28T09:34:22Z</dcterms:modified>
  <cp:revision>31</cp:revision>
  <dc:subject/>
  <dc:title>Presentación de PowerPoint</dc:title>
</cp:coreProperties>
</file>